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377-3E31-49C4-A89B-8C315879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1C0-B0F9-498C-9546-50DDF2B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BCB-3D51-43F6-8BAA-C6AA782C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5DB-0DBD-4810-8982-3E4846E6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AB7-4F01-4BD5-9CE9-1E787C0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C041-203B-4403-8FF8-EEE98316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DBF2-5B72-4B14-89C1-945C886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2B21-F2AD-4505-A36E-D6B9E4E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2A0-3135-4E06-941C-614C2B0E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660-B7CB-4488-BD9B-08E35A9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FD0-D53D-461A-812E-D7EE000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3C5-1B4B-4570-8BBA-8EDBB42B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5640-E373-4C94-916C-7ACBB99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3069-97BB-49B1-B1DC-616622E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3FB8-A409-41B8-9EF9-B760BEF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F8F-46F6-4C42-A8C6-742F5A88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F59-8ECA-4471-8C64-204A40FD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376-0416-44E5-BC06-D82C15B9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A52-E337-450E-822D-64FAAAC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43B-C1FD-469C-88C8-0CB880B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759-5F01-4BE0-A69F-64A95B0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6C-CB97-447A-B8CB-AC542FC3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982-6E01-4DA3-AB19-79EAD889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9E8-B624-4F9C-B6AE-B9C1A23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3B16-59EB-4EE2-B8E7-78F7A2392D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466-A38D-4E07-B6E0-2E598D850B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 u="sng">
                <a:solidFill>
                  <a:srgbClr val="6767ff"/>
                </a:solidFill>
                <a:uFillTx/>
                <a:latin typeface="Arial"/>
              </a:rPr>
              <a:t>Freedom Writers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Copy these themes into your book and give examples of where they can be found in the film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f we learn to be tolerant we can see and accept other ways of li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HEROIS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makes a hero? It is ordinary people, not just those who are fam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ACIS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We can’t be tolerant and understand others if we judge them on their race/ethni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O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SPONSIBILITY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e can always choose to do the right 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f we persist in life, we will succeed when we meet challe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It is always possible to change who we are and the way we do th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23:18:58Z</dcterms:created>
  <dc:creator>Ministry of Education</dc:creator>
  <dc:description/>
  <dc:language>en-US</dc:language>
  <cp:lastModifiedBy>Ministry of Education</cp:lastModifiedBy>
  <dcterms:modified xsi:type="dcterms:W3CDTF">2011-05-03T00:08:48Z</dcterms:modified>
  <cp:revision>2</cp:revision>
  <dc:subject/>
  <dc:title>Slide 1</dc:title>
</cp:coreProperties>
</file>